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49B-C200-4D41-8537-8AF970F9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435-BDBE-492E-BBC4-9BE4E644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E63-0560-44CF-81D0-07C9D64C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D7E-9CC4-4EA1-9E5B-ADDEEBD6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5AAE-8B82-41F1-A102-F9ED658F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7EAE-8CCF-4EEB-BFCA-438E5C92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800D-5F11-4691-AFDB-BF2699FC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1D3D-4E9A-4CB8-B32C-D73525FA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9802-9D69-4901-B793-5FA7A14F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6ED5-A47F-4A7C-B28E-1E90CE06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C177-6FF0-4BA8-98D6-CDC19E09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13F-3D96-47C8-B93C-8CCAD84E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F0F5-5786-4F04-BA0D-9524F140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6DE9-48E4-49E2-922D-869841E5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0995-A27D-48EF-9FC4-F786804C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2534-D60F-4B7D-8911-EF1A8A9D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50A8-9721-4149-B505-50323CAD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024-C8A3-405A-A36D-F4D46149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669-24EE-4E11-83F1-C20B57CA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B31-0131-4738-9784-E2F7CC80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C80-B37D-4016-AE06-EC1CFB90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FBC-E131-4A8C-93E7-6643C060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00F-15AE-4F85-9353-69FE9154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5DC-EE52-4A03-BD91-B36329F0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2273-D086-4922-BED2-553F9E3E1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A724-0E58-4339-8400-C77B88921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eec94"/>
                </a:solidFill>
                <a:latin typeface="Expletive Deleted"/>
              </a:rPr>
              <a:t>The Pumpkin Life Cycle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pumpkin patch 06 012"/>
          <p:cNvPicPr/>
          <p:nvPr/>
        </p:nvPicPr>
        <p:blipFill>
          <a:blip r:embed="rId1"/>
          <a:stretch/>
        </p:blipFill>
        <p:spPr>
          <a:xfrm>
            <a:off x="2666880" y="1905120"/>
            <a:ext cx="36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ec94"/>
                </a:solidFill>
                <a:latin typeface="Expletive Deleted"/>
              </a:rPr>
              <a:t>First we plant a pumpkin seed.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4" descr="pumpkin patch 06 141"/>
          <p:cNvPicPr/>
          <p:nvPr/>
        </p:nvPicPr>
        <p:blipFill>
          <a:blip r:embed="rId1"/>
          <a:stretch/>
        </p:blipFill>
        <p:spPr>
          <a:xfrm>
            <a:off x="1676520" y="213372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0592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Expletive Deleted"/>
              </a:rPr>
              <a:t>Then the seed begins to grow into a pumpkin sprout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5" descr="PumpkinSprout"/>
          <p:cNvPicPr/>
          <p:nvPr/>
        </p:nvPicPr>
        <p:blipFill>
          <a:blip r:embed="rId1"/>
          <a:stretch/>
        </p:blipFill>
        <p:spPr>
          <a:xfrm>
            <a:off x="1828800" y="22860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ec94"/>
                </a:solidFill>
                <a:latin typeface="Expletive Deleted"/>
              </a:rPr>
              <a:t>The sprout grows into a pumpkin vine.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Picture 5" descr="3-pumpkinVine"/>
          <p:cNvPicPr/>
          <p:nvPr/>
        </p:nvPicPr>
        <p:blipFill>
          <a:blip r:embed="rId1"/>
          <a:stretch/>
        </p:blipFill>
        <p:spPr>
          <a:xfrm>
            <a:off x="1752480" y="2438280"/>
            <a:ext cx="54104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Expletive Deleted"/>
              </a:rPr>
              <a:t>Then the vine grows yellow flowers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4" descr="pumpkin patch 06 098"/>
          <p:cNvPicPr/>
          <p:nvPr/>
        </p:nvPicPr>
        <p:blipFill>
          <a:blip r:embed="rId1"/>
          <a:stretch/>
        </p:blipFill>
        <p:spPr>
          <a:xfrm>
            <a:off x="1447920" y="2286000"/>
            <a:ext cx="607032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Expletive Deleted"/>
              </a:rPr>
              <a:t>The yellow flowers turn into small green pumpkins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4" descr="pumpkin patch 06 013"/>
          <p:cNvPicPr/>
          <p:nvPr/>
        </p:nvPicPr>
        <p:blipFill>
          <a:blip r:embed="rId1"/>
          <a:stretch/>
        </p:blipFill>
        <p:spPr>
          <a:xfrm>
            <a:off x="1600200" y="2209680"/>
            <a:ext cx="5664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Expletive Deleted"/>
              </a:rPr>
              <a:t>The green pumpkin grows and grows and turns orange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4" descr="pumpkin patch 06 019"/>
          <p:cNvPicPr/>
          <p:nvPr/>
        </p:nvPicPr>
        <p:blipFill>
          <a:blip r:embed="rId1"/>
          <a:stretch/>
        </p:blipFill>
        <p:spPr>
          <a:xfrm>
            <a:off x="2133720" y="2895480"/>
            <a:ext cx="4902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54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ec94"/>
                </a:solidFill>
                <a:latin typeface="Expletive Deleted"/>
              </a:rPr>
              <a:t>When we cut our pumpkin open we can keep some seeds to plant, so we can have more pumpkins to pick next fall.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umpkin patch 06 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20:33:55Z</dcterms:created>
  <dc:creator> </dc:creator>
  <dc:description/>
  <dc:language>en-US</dc:language>
  <cp:lastModifiedBy>teacher</cp:lastModifiedBy>
  <dcterms:modified xsi:type="dcterms:W3CDTF">2011-01-07T22:17:27Z</dcterms:modified>
  <cp:revision>4</cp:revision>
  <dc:subject/>
  <dc:title>The Pumpkin Life Cycle</dc:title>
</cp:coreProperties>
</file>